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628-96B0-4E60-85D8-4173769D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EBF-FC05-4F1A-AD0A-0B328D0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B49-3B52-4B6F-9D75-8711DCB1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C82-2B0E-416A-A21E-83FE1B0C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459-D46A-49D1-B1A5-447DF6EE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B4B-35FF-4FD4-8C71-ACB01200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AB8-2BF2-426C-8956-88B44CDF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46-6A7D-4A9E-89E4-0422A089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246-3720-4E25-9009-1A4A2E6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11A-70C1-4845-97E4-AEA7A8C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FE1-16C2-4E61-A6CF-EC2D237E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FD1-61BC-491D-8FF0-1509CE8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85CF-682D-4256-A6CD-18C59219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777440" cy="747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8573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020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0:44:46Z</dcterms:created>
  <dc:creator>Windows xp</dc:creator>
  <dc:description/>
  <dc:language>en-US</dc:language>
  <cp:lastModifiedBy>Windows xp</cp:lastModifiedBy>
  <dcterms:modified xsi:type="dcterms:W3CDTF">2011-10-06T00:47:41Z</dcterms:modified>
  <cp:revision>2</cp:revision>
  <dc:subject/>
  <dc:title>Diapositiva 1</dc:title>
</cp:coreProperties>
</file>